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2007-8D5A-43F4-9B6C-0915950A3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mnitel: Italien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strada: Italienischer Inten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: Brit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Arcor: Deutscher Festnetzdienst- und Festnetztelekommunikations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Passo: Anbieter für Verkehrs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getel: Französischer Funk- und Festnetz-An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le.ring: Österreichischer Inte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.tel.o: Call by Call Anbieter in 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IS Multimedia 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many.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Eurokom: Internationaler Funk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6E1-B0FC-4698-B2D2-14977DEE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B69-5442-4259-942D-3861947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87D-01B5-4B95-A8B3-6BAF4155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3FF-B1B7-4D14-92E9-262D127A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91B-E998-4DAD-80AA-18AE28A8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0E9-4316-4847-8D06-5EC56A52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2E7-4D47-4003-9451-7C2E367C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DCF-2F27-48EF-819B-624ECC0D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E19-D519-47B9-B225-9E852F59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803-ABD8-473E-9F73-1610AAFA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6B9-3073-4D2F-B7BF-D49FA66B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3E7-9213-41B8-A310-7598AB5B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8F67-23D3-48EB-8F51-A5F14FB2BE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week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2004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nnesmann%20logo" descr=""/>
          <p:cNvPicPr/>
          <p:nvPr/>
        </p:nvPicPr>
        <p:blipFill>
          <a:blip r:embed="rId2"/>
          <a:stretch/>
        </p:blipFill>
        <p:spPr>
          <a:xfrm>
            <a:off x="4572000" y="4257720"/>
            <a:ext cx="4267080" cy="1990800"/>
          </a:xfrm>
          <a:prstGeom prst="rect">
            <a:avLst/>
          </a:prstGeom>
          <a:ln w="0">
            <a:noFill/>
          </a:ln>
        </p:spPr>
      </p:pic>
      <p:pic>
        <p:nvPicPr>
          <p:cNvPr id="51" name="vodafoneAirTouch%20logo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267080" cy="16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943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y Christopher Houben EBS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egins an immense publicity campaig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acts with its own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3. Dec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peats its offer of giving 5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adline for this offer is set to 7. Februar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1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„Wall Street Journal“ reports about a possible joint-venture between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8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nfirms talks about acquisitions within AOL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 give notice about a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nounces to increase its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O Klaus Esser announces the friendly takeover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Air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inal share exchange rate was set to 58,96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, which is the equivalent of 380 b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whole advertising campaign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st about 50 m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ectors Engineering and Automotive will be deme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recent takeover of Orange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has to b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rench company Vivendi will recieve half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getel shares (which is 7,5%) as promis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What i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smaller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better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0% of Western Europe‘s market volume was supposed to be in the hands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n the long ru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ould have grown faster and would have had the bett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tock capitalization will be worth 70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will be the 4.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t will serve 42 million mobile phone customers in 25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ild%20connecting%20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82640" cy="28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eadquaters in Newbury/Great Britain and Düsseldorf/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nternet and the conventional telephone network activities will be coordinated in Düsseldorf, the rest in New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til now 88,91% Mannesmann shareholders accepted Vodafone‘s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map%20-%20from%20Barrett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42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 and its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20" y="632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Vodafone Presentation of 23. Dec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is constantly looking for opportunities to enlarge and/or cooperate with other foreign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concentrate more on the mobile phon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found a new internet company with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907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hat do you think of „hostile“ takeo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katz+mus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3248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wo companies and it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hareholder stucture and the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akeover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consequences and „What if..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and its 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s the takeover of the traditional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company by the relatively young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AirTouch justifi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ll there only be a couple of mega transnationals ruling the whole future business worl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ewsweek‘s Internet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ewswee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net-Archiv of Wirtschaftsw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 www.wiwo.d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tschaftsmagazin „Börse-Onlin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liner Morgen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üddeutsche Z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890, Foundation of the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„Deutsch-Österreichische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annesmannröhren-Werke AG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“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70, Outsourcing and investment in new areas such a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1990: Establishment of Germany‘s first private mobile phone network D2: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Mobilfunk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7 on, concentration on the Telecommunica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nnesmann%20logo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lecom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4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600" y="6031080"/>
            <a:ext cx="41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Mannesmann Homepage www.mannesmann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,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eg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 a division of Racal Electronics P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, under the name of Racal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anuary 1985, „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“ is launched as UK‘s first cellular mobil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3 on, Formation of partnerships all over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0 June 1999,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erges with the U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Touch Communications Inc.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 since it is known as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vodafoneAirTouch%20logo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42568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3805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Vodafone AirTouch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ertig%20fertig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1499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6960" y="62485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ource: Berliner Morgenpost 5. Febr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350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ivat: 3,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nks:85,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vestmenttrusts and –fonds: 1,0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Companies: 2,6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s: 6,6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utchison Whampoa: 10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reat Britain / USA Institutions: 32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rman Institutions: 11,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taff: ~7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ocal and foreign privat shareholders: 32,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 foreign shareholders: 5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hareholder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ered the British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hat can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do better than the two companies together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7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will expand much faster alone and has the bett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is worth much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merger brings man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2. Octo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newspaper „Times“ reported about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irTouch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ntions on taking over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12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s 4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 is enlarged to 53,7 own shares (= 242 billion 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23:11:09Z</dcterms:created>
  <dc:creator>Stoffel</dc:creator>
  <dc:description/>
  <dc:language>en-US</dc:language>
  <cp:lastModifiedBy>Stoffel</cp:lastModifiedBy>
  <cp:lastPrinted>2000-03-02T11:29:24Z</cp:lastPrinted>
  <dcterms:modified xsi:type="dcterms:W3CDTF">2000-03-22T22:06:56Z</dcterms:modified>
  <cp:revision>22</cp:revision>
  <dc:subject/>
  <dc:title>The History of Mannesmann</dc:title>
</cp:coreProperties>
</file>