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550B-28C4-40D3-A55E-BF59BDFAF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09A6-9866-4C9F-B691-34C0B440E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2F48-8D8D-4750-B1D1-C9B7C5923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F0B0-B579-4B3D-A64E-29C10BFFE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0345-A4A7-41FC-BEF5-EFB1A5356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16C3-0326-4622-AFAB-D7EE59888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805A-A77A-44F5-8D75-F99960860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696C-2181-4985-8CF7-E3D23555B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48E5-C984-498A-B282-B812290AB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CB7D-058F-4174-807E-E2DE4F47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F47C-3E52-4228-B38F-8289A9D1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74C7-1879-44F5-9CFD-678958E0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BF003-85A0-4238-BE4C-215FD2761B59}" type="slidenum">
              <a:rPr b="1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migas.at.tf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RUCK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2057400"/>
            <a:ext cx="731520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MPACT-Drucke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Typenrad und Nadeldru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ON-IMPACT-Drucke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Thermodrucke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Tintenstrahldrucke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Fotoelektrische Drucker (Laser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AD8D-3D16-42EA-8E1E-544C3B8CCCD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aserdruck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1981080"/>
            <a:ext cx="8381880" cy="47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Times New Roman"/>
              </a:rPr>
              <a:t>Laserdrucker</a:t>
            </a:r>
            <a:r>
              <a:rPr b="0" lang="de-DE" sz="4000" spc="-1" strike="noStrike">
                <a:solidFill>
                  <a:srgbClr val="000000"/>
                </a:solidFill>
                <a:latin typeface="Times New Roman"/>
              </a:rPr>
              <a:t> arbeiten</a:t>
            </a:r>
            <a:br>
              <a:rPr sz="4000"/>
            </a:br>
            <a:r>
              <a:rPr b="0" lang="de-DE" sz="4000" spc="-1" strike="noStrike">
                <a:solidFill>
                  <a:srgbClr val="000000"/>
                </a:solidFill>
                <a:latin typeface="Times New Roman"/>
              </a:rPr>
              <a:t>   seitenorientie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imes New Roman"/>
              </a:rPr>
              <a:t>Seite vor Druck im </a:t>
            </a:r>
            <a:r>
              <a:rPr b="1" lang="de-DE" sz="4000" spc="-1" strike="noStrike">
                <a:solidFill>
                  <a:srgbClr val="000000"/>
                </a:solidFill>
                <a:latin typeface="Times New Roman"/>
              </a:rPr>
              <a:t>Arbeitsspeic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imes New Roman"/>
              </a:rPr>
              <a:t>A4 - Seite benötigt </a:t>
            </a:r>
            <a:br>
              <a:rPr sz="4000"/>
            </a:br>
            <a:r>
              <a:rPr b="0" lang="de-DE" sz="4000" spc="-1" strike="noStrike">
                <a:solidFill>
                  <a:srgbClr val="000000"/>
                </a:solidFill>
                <a:latin typeface="Times New Roman"/>
              </a:rPr>
              <a:t>   ca. </a:t>
            </a:r>
            <a:r>
              <a:rPr b="1" lang="de-DE" sz="4000" spc="-1" strike="noStrike">
                <a:solidFill>
                  <a:srgbClr val="000000"/>
                </a:solidFill>
                <a:latin typeface="Times New Roman"/>
              </a:rPr>
              <a:t>1,2 MB</a:t>
            </a:r>
            <a:r>
              <a:rPr b="0" lang="de-DE" sz="4000" spc="-1" strike="noStrike">
                <a:solidFill>
                  <a:srgbClr val="000000"/>
                </a:solidFill>
                <a:latin typeface="Times New Roman"/>
              </a:rPr>
              <a:t>  Speic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08F4-368A-4604-BD96-3156227FA88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50292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Vorsicht 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1752480"/>
            <a:ext cx="807696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ser-Drucker produziere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schädliches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Z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fährliches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nzol u. Styr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bereits in geringer Dosieru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schädli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Räumen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reichend lüft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89F8-DA5C-42C9-BB47-0056C6962E7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Times New Roman"/>
              </a:rPr>
              <a:t>Homep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Times New Roman"/>
              </a:rPr>
              <a:t>Weitere Arbeiten und vieles mehr auf meiner Homepage: </a:t>
            </a:r>
            <a:r>
              <a:rPr b="0" lang="de-AT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migas.at.tf</a:t>
            </a:r>
            <a:r>
              <a:rPr b="0" lang="de-A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B9CB-2854-4E7B-9824-D94AACB5460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Ü b e r s i c h 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1523880"/>
            <a:ext cx="3429000" cy="1312920"/>
          </a:xfrm>
          <a:prstGeom prst="rect">
            <a:avLst/>
          </a:prstGeom>
          <a:noFill/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ACT-Dru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3962520"/>
            <a:ext cx="3809880" cy="1312920"/>
          </a:xfrm>
          <a:prstGeom prst="rect">
            <a:avLst/>
          </a:prstGeom>
          <a:noFill/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ypenrad-Dru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514240" y="2895480"/>
            <a:ext cx="2057400" cy="10670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0" y="2895480"/>
            <a:ext cx="1981080" cy="10670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800600" y="3962520"/>
            <a:ext cx="3809880" cy="1312920"/>
          </a:xfrm>
          <a:prstGeom prst="rect">
            <a:avLst/>
          </a:prstGeom>
          <a:noFill/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adel-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ru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C9BC-3B4A-4E05-86F1-5A486DE4A4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Tapenrad und</a:t>
            </a:r>
            <a:br>
              <a:rPr sz="3600"/>
            </a:b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Nadeldruck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2362320"/>
            <a:ext cx="647712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ypenrad-Druck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nur mehr selten in Gebra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deldruck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n Firmen, zuverlässig und preisgünsti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Durchschläge mögl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uckgeschwindigke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ca 80 - 600 Zeichen pro Seku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B805-C5EA-46EF-B83A-923B85962FD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ON-IMPACT-Druck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2362320"/>
            <a:ext cx="82296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ruppe der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schlagfreie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Dru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teroberung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 extrem leis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 sehr schnel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 gute Druckqualitä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34A1-1517-48D4-A6EA-448D5D3761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) Der Thermodruck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905120"/>
            <a:ext cx="7772400" cy="44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Ausdruck von digitalen Bilde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Thermo-Transfer-Druck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: spezielle Farbfolie wird unter Thermodruckkopf durchgefüh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Thermo-Sublimations-Druck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: Wachs wird verdampft und dringt in Spezialpapier 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brilliante Farben         </a:t>
            </a: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sehr teu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2598-0165-437D-AEA6-3861A4A88A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2) Tintenstrahl-Druck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2286000"/>
            <a:ext cx="85345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m Heimbereich beliebtester Dru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eringer Anschaffungspre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sehnliches Schriftbi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he Druckgeschwindigke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80F3-2357-41CB-9941-094040CEED6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Bubble-Jet-Verfahr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>
            <a:lum contrast="60000"/>
          </a:blip>
          <a:stretch/>
        </p:blipFill>
        <p:spPr>
          <a:xfrm>
            <a:off x="380880" y="2133720"/>
            <a:ext cx="3886200" cy="3317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4572000" y="2286000"/>
            <a:ext cx="4572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rbeitet mit Hitze und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Lebensdauer Druckkopf: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200 mio. Zeichen 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entspricht ca 50 000 Seiten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Druckkopf in Tintenpatrone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  integriert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41A4-A123-409B-A180-8C33CBC7E08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iezo - Verfahr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228600" y="2362320"/>
            <a:ext cx="4343400" cy="2573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572000" y="1905120"/>
            <a:ext cx="457200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esentlich höhere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Lebensdau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a. 2 Mrd. Zeichen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= 500 000 Sei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chneller als Bubble -J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 jeder Düse ein 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Piezo- Keramik-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22A3-05B9-4B40-B043-0277191D7A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) Fotoelektrische Drucker</a:t>
            </a:r>
            <a:br>
              <a:rPr sz="4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L a s e r  /  L E D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28600" y="2133720"/>
            <a:ext cx="4114800" cy="34495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4572000" y="1752480"/>
            <a:ext cx="4572000" cy="41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aserdrucker bietet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höchste Qualität (Tex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ßerordentlich hohe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Druckgeschwindigk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rbeitet wie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xerografische Fotokopier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fwendiges Spiegel-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system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A6C0-63A4-4A0A-B104-A25ABFBF8DD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3T19:07:33Z</dcterms:created>
  <dc:creator>GASPERL</dc:creator>
  <dc:description/>
  <dc:language>en-US</dc:language>
  <cp:lastModifiedBy>Michael</cp:lastModifiedBy>
  <dcterms:modified xsi:type="dcterms:W3CDTF">2003-04-15T23:37:54Z</dcterms:modified>
  <cp:revision>21</cp:revision>
  <dc:subject/>
  <dc:title>Kein Folientitel</dc:title>
</cp:coreProperties>
</file>