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1CC-D855-43A1-8350-604E1457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C6C-7D53-4308-B6A1-D5E372FF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DDD-BB3D-46B8-B4C8-C5D418FE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FE9-D121-4259-AE0C-1764F864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036-F679-4ECA-8E8B-3E68F799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7FE-279D-41E7-BCED-BAF7F50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647-C1E8-4D0B-93D6-F90A18E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72C-EA5A-49F2-8029-C293F81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C59-76E3-4424-9FEB-EDD00BFD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211-DFE4-4DB9-9136-4D39FBE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0DF-CC8B-47B7-8E01-6FE92B8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335-3871-4D96-85EA-ADDA0BE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0736-3806-4845-B477-B6657C982275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gas.at.tf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ypenrad und Nadel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hermo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intenstrahl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toelektrische Drucker (Las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86E-C175-4B2A-80BC-464BBF5AFA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druck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druck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arbeit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seitenorienti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Seite vor Druck im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s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4 - Seite benötigt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ca.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1,2 MB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360-84CF-4A22-A3F4-723A8F84E1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rsich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-Drucker produzier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fähr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zol u. Sty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reits in geringer Dosieru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Räum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reichend lü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5E0-E836-4B11-ABB5-C556FBA74C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Times New Roman"/>
              </a:rPr>
              <a:t>Home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Weitere Arbeiten und vieles mehr auf meiner Homepage: </a:t>
            </a:r>
            <a:r>
              <a:rPr b="0" lang="de-AT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igas.at.tf</a:t>
            </a: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99F-F777-4EB7-B917-6E8C12379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 b e r s i c h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523880"/>
            <a:ext cx="342900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ACT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nrad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14240" y="2895480"/>
            <a:ext cx="205740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895480"/>
            <a:ext cx="198108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del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168-534B-453A-9AC1-E2D687D16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penrad und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362320"/>
            <a:ext cx="6477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nrad-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r mehr selten in Gebr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el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 Firmen, zuverlässig und preisgünst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urchschläg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ckgeschwindigke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a 80 - 600 Zeichen pro Se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A92-FE42-4BAF-9BBA-2EBC0C6BB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-IMPACT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uppe d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schlagfrei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teroberu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xtrem le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ehr schn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ute Druckqualitä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24A-C2C0-415E-87D1-81E7E2E22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Der Thermo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7724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druck von digitalen 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Transfer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spezielle Farbfolie wird unter Thermodruckkopf durch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Sublimations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Wachs wird verdampft und dringt in Spezialpapier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illiante Farben        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ehr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7A6-DCE0-4760-B306-B163F7B5A7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Tintenstrahl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 Heimbereich beliebtester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inger Anschaffungspr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ehnliches Schriftb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he Druckgeschwind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D91-A541-48C9-B922-6D2A1C09CB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ubble-Jet-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80880" y="2133720"/>
            <a:ext cx="3886200" cy="33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72000" y="2286000"/>
            <a:ext cx="45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beitet mit Hitze un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ebensdauer Druckkopf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200 mio. Zeich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entspricht ca 50 000 Seit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Druckkopf in Tintenpatron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integrier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2A7-128E-4F1A-AE35-358776F3D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ezo - 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362320"/>
            <a:ext cx="4343400" cy="257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1905120"/>
            <a:ext cx="4572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sentlich höhe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Lebensda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2 Mrd. Zeich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= 500 000 S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neller als Bubble -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jeder Düse 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Piezo- Keramik-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FC5-834F-44AE-9706-ABB8CBB58A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otoelektrische Druck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 a s e r  /  L E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2133720"/>
            <a:ext cx="4114800" cy="3449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0" y="1752480"/>
            <a:ext cx="4572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erdrucker biet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höchste Qualität (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ßerordentlich ho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ruckgeschwind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t wi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xerografische Fotokopi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wendiges Spiegel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5B3-C508-4090-B113-1D8D3ED66C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9:07:33Z</dcterms:created>
  <dc:creator>GASPERL</dc:creator>
  <dc:description/>
  <dc:language>en-US</dc:language>
  <cp:lastModifiedBy>Michael</cp:lastModifiedBy>
  <dcterms:modified xsi:type="dcterms:W3CDTF">2003-04-15T23:37:54Z</dcterms:modified>
  <cp:revision>21</cp:revision>
  <dc:subject/>
  <dc:title>Kein Folientitel</dc:title>
</cp:coreProperties>
</file>